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9.wmf" ContentType="image/x-wmf"/>
  <Override PartName="/ppt/media/image2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gif" ContentType="image/gif"/>
  <Override PartName="/ppt/media/image14.wmf" ContentType="image/x-wmf"/>
  <Override PartName="/ppt/media/image6.gif" ContentType="image/gi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363-C1BF-4C87-9973-5F6F9317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E55-ED4E-47B7-AD20-A6C70CFF58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BB1-2FF8-4E44-BCD0-CF709302F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345-DC75-43F9-80E1-12C3DD6549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C73-274A-47E1-A3D4-70E6DC0B03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B10-D599-461E-A586-1E889E37D1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DAD-3BC3-49A8-BD2F-81A4C32844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5BAF-4A0D-470A-8882-8FDD4DEF38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AB1-2141-4081-8ED5-DC0B196177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D1B0-3FC6-4A53-B093-3A5C951A5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02CF-1103-47B0-BBB1-E446BEFE5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1F80-F965-4AA2-A865-BC0B12F65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3707-1CC4-4F74-B54E-C973415233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D2E6-187C-4FE3-88B9-74BFC4312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EF5-BC21-4A95-813D-9621FC84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2A0-C196-4336-ABCC-48E151B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C6B-CB55-4FF0-83A8-88FFAED9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946-CF87-47DD-8A54-2DE3B3CE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8747-B0FE-43AC-94F3-AE202D2F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FA98-4D07-45B2-86B1-89950D6C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E767-907A-45FD-AA27-C00F77DA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D5D4-9170-44E4-84EB-69495D3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A5E-A8A4-4027-A033-E528F8A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21A9-651E-4B10-9640-28AE52E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748A-3B83-40D0-9C73-E43B8F2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DD5-8F13-4759-92A3-A93924E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3DD8-35B7-498C-8BF1-6348B64C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25F7-420C-4F91-A2D3-4275EDB4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DD4-4334-4531-9AF3-5CCBCB8B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BBB-952A-42DB-84A9-42C05E57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C94B-E920-4506-AFB6-418067B9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271-9ADC-4D9F-ADB9-8FDFA843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1A5-8F52-49CB-8E83-D7FB1095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D5F-515F-408B-BDFA-A9319BD7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918-37C5-40D7-935F-64795E0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8CD-88A0-4149-84B1-B8B4F2C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15B-9AD0-40A8-A074-76CA66D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196-8289-425A-B4AE-F1D9FDF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9DDB-FCA8-40EC-9C00-6BCADA64B1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4EA-9433-4F65-96FB-9916AED5CD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3429000" y="2057400"/>
            <a:ext cx="586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mpus Sans ITC"/>
              </a:rPr>
              <a:t>Welcome t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C:\Users\dwilliams2\AppData\Local\Microsoft\Windows\Temporary Internet Files\Content.IE5\ZO097Q1G\MP900402149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3814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Aharoni"/>
                <a:ea typeface="Aharoni"/>
              </a:rPr>
              <a:t>How to Get my Attention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447920" y="5562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9" descr="C:\Users\dwilliams2\AppData\Local\Microsoft\Windows\Temporary Internet Files\Content.IE5\253LA2QH\MP900427810[1].jpg"/>
          <p:cNvPicPr/>
          <p:nvPr/>
        </p:nvPicPr>
        <p:blipFill>
          <a:blip r:embed="rId1"/>
          <a:stretch/>
        </p:blipFill>
        <p:spPr>
          <a:xfrm>
            <a:off x="457200" y="2514600"/>
            <a:ext cx="3836880" cy="285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4.bp.blogspot.com/-LvxvGLKa8o4/UcCEN6Ub7PI/AAAAAAAAA-g/rcwRk20R6R0/s1600/hands+in+lap.jpg"/>
          <p:cNvPicPr/>
          <p:nvPr/>
        </p:nvPicPr>
        <p:blipFill>
          <a:blip r:embed="rId2"/>
          <a:stretch/>
        </p:blipFill>
        <p:spPr>
          <a:xfrm>
            <a:off x="5257800" y="22431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5048280" y="5557680"/>
            <a:ext cx="35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List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Aharoni"/>
                <a:ea typeface="Aharoni"/>
              </a:rPr>
              <a:t>How to Get my Attention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26" name="Picture 4" descr="MCj02979430000[1]"/>
          <p:cNvPicPr/>
          <p:nvPr/>
        </p:nvPicPr>
        <p:blipFill>
          <a:blip r:embed="rId1"/>
          <a:stretch/>
        </p:blipFill>
        <p:spPr>
          <a:xfrm>
            <a:off x="533520" y="1371600"/>
            <a:ext cx="138420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MCj02979410000[1]"/>
          <p:cNvPicPr/>
          <p:nvPr/>
        </p:nvPicPr>
        <p:blipFill>
          <a:blip r:embed="rId2"/>
          <a:stretch/>
        </p:blipFill>
        <p:spPr>
          <a:xfrm>
            <a:off x="3886200" y="2971800"/>
            <a:ext cx="143820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2895480" y="6019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et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8" descr="MCj02979390000[1]"/>
          <p:cNvPicPr/>
          <p:nvPr/>
        </p:nvPicPr>
        <p:blipFill>
          <a:blip r:embed="rId3"/>
          <a:stretch/>
        </p:blipFill>
        <p:spPr>
          <a:xfrm>
            <a:off x="7238880" y="1219320"/>
            <a:ext cx="1332000" cy="3200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6324480" y="44956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to go to the Rest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1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Dismiss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ve Work/Exit progra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t away headphones proper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ighten keyboard/m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ather materials/tras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sh in chair and stand behind it until dismissed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C:\Users\dwilliams2\AppData\Local\Microsoft\Windows\Temporary Internet Files\Content.IE5\ZO097Q1G\MM900283848[1].gif"/>
          <p:cNvPicPr/>
          <p:nvPr/>
        </p:nvPicPr>
        <p:blipFill>
          <a:blip r:embed="rId1"/>
          <a:stretch/>
        </p:blipFill>
        <p:spPr>
          <a:xfrm>
            <a:off x="5562720" y="2057400"/>
            <a:ext cx="317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df"/>
                </a:solidFill>
                <a:latin typeface="bang whack pow"/>
              </a:rPr>
              <a:t>Lining Up Procedures</a:t>
            </a:r>
            <a:endParaRPr b="0" lang="en-US" sz="6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instructed by teach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le around to the lef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lk to the door in single fi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C:\Users\dwilliams2\AppData\Local\Microsoft\Windows\Temporary Internet Files\Content.IE5\IS9CPID6\MP900382689[1].jpg"/>
          <p:cNvPicPr/>
          <p:nvPr/>
        </p:nvPicPr>
        <p:blipFill>
          <a:blip r:embed="rId1"/>
          <a:stretch/>
        </p:blipFill>
        <p:spPr>
          <a:xfrm>
            <a:off x="177840" y="3809880"/>
            <a:ext cx="820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Attention Student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39" name="Picture 2" descr="http://www.scholastic.com/teachers/sites/default/files/posts/u24/images/az.cwk_.rocketship.jpg"/>
          <p:cNvPicPr/>
          <p:nvPr/>
        </p:nvPicPr>
        <p:blipFill>
          <a:blip r:embed="rId1"/>
          <a:stretch/>
        </p:blipFill>
        <p:spPr>
          <a:xfrm>
            <a:off x="1289160" y="12952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www.scholastic.com/teachers/sites/default/files/posts/u24/images/az.cwk_.satellite.jpg"/>
          <p:cNvPicPr/>
          <p:nvPr/>
        </p:nvPicPr>
        <p:blipFill>
          <a:blip r:embed="rId2"/>
          <a:stretch/>
        </p:blipFill>
        <p:spPr>
          <a:xfrm>
            <a:off x="4495680" y="13716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www.scholastic.com/teachers/sites/default/files/posts/u24/images/az.cwk_.launchpad.jpg"/>
          <p:cNvPicPr/>
          <p:nvPr/>
        </p:nvPicPr>
        <p:blipFill>
          <a:blip r:embed="rId3"/>
          <a:stretch/>
        </p:blipFill>
        <p:spPr>
          <a:xfrm>
            <a:off x="1289160" y="4038480"/>
            <a:ext cx="2628720" cy="2629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4850640" y="4648320"/>
            <a:ext cx="26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st Off”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to Work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85840" y="257184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c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7153920" y="24955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tell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79360" y="5186520"/>
            <a:ext cx="9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un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Logging In and Ou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og In—One be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sten before Logging Out-Two bell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" descr="C:\Users\dwilliams2\AppData\Local\Microsoft\Windows\Temporary Internet Files\Content.IE5\253LA2QH\MP900382799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94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1d1df"/>
                </a:solidFill>
                <a:latin typeface="Amadeus"/>
              </a:rPr>
              <a:t>Drill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1960" y="1472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rnado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Blue D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C:\Users\dwilliams2\AppData\Local\Microsoft\Windows\Temporary Internet Files\Content.IE5\IS9CPID6\MC900335182[1].wmf"/>
          <p:cNvPicPr/>
          <p:nvPr/>
        </p:nvPicPr>
        <p:blipFill>
          <a:blip r:embed="rId1"/>
          <a:stretch/>
        </p:blipFill>
        <p:spPr>
          <a:xfrm>
            <a:off x="4191120" y="2593800"/>
            <a:ext cx="39574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505320" y="1450800"/>
            <a:ext cx="586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Enjoy your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ime in the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Technology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mpus Sans ITC"/>
              </a:rPr>
              <a:t>L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304920" y="1622520"/>
            <a:ext cx="373356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990720" y="1295280"/>
            <a:ext cx="7162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Technology Lab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empus Sans ITC"/>
              </a:rPr>
              <a:t>Rules &amp; Procedur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Cj04244440000[1]"/>
          <p:cNvPicPr/>
          <p:nvPr/>
        </p:nvPicPr>
        <p:blipFill>
          <a:blip r:embed="rId1"/>
          <a:stretch/>
        </p:blipFill>
        <p:spPr>
          <a:xfrm>
            <a:off x="6095880" y="1295280"/>
            <a:ext cx="260028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d1df"/>
                </a:solidFill>
                <a:latin typeface="bang whack pow"/>
              </a:rPr>
              <a:t>Arrival Procedures</a:t>
            </a:r>
            <a:endParaRPr b="0" lang="en-US" sz="6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Sanitize FIRST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Come in quiet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Move to you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igned compute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you are told to do so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Do not begin using the computer until told to do so. Listen to grownup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-30528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thsCuteHmkBold"/>
              </a:rPr>
              <a:t>Be Nice to the Computer Lab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2" name="Picture 14" descr="http://ecx.images-amazon.com/images/I/51ccgc74c%2BL._SX300_.jpg"/>
          <p:cNvPicPr/>
          <p:nvPr/>
        </p:nvPicPr>
        <p:blipFill>
          <a:blip r:embed="rId1"/>
          <a:stretch/>
        </p:blipFill>
        <p:spPr>
          <a:xfrm>
            <a:off x="533520" y="1015920"/>
            <a:ext cx="77724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No food or drinks in the lab</a:t>
            </a:r>
            <a:br>
              <a:rPr sz="4400"/>
            </a:b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82080" cy="4705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MCj04325380000[1]"/>
          <p:cNvPicPr/>
          <p:nvPr/>
        </p:nvPicPr>
        <p:blipFill>
          <a:blip r:embed="rId2"/>
          <a:stretch/>
        </p:blipFill>
        <p:spPr>
          <a:xfrm>
            <a:off x="3809880" y="2514600"/>
            <a:ext cx="3657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25560"/>
            <a:ext cx="8229600" cy="10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1df"/>
                </a:solidFill>
                <a:latin typeface="bang whack pow"/>
              </a:rPr>
              <a:t>Be Nice to the Computers Lab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5562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with permission ON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e and Print once, when tol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MMj01631220000[1]"/>
          <p:cNvPicPr/>
          <p:nvPr/>
        </p:nvPicPr>
        <p:blipFill>
          <a:blip r:embed="rId1"/>
          <a:stretch/>
        </p:blipFill>
        <p:spPr>
          <a:xfrm>
            <a:off x="5334120" y="5029200"/>
            <a:ext cx="2743200" cy="163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4413410000[1]"/>
          <p:cNvPicPr/>
          <p:nvPr/>
        </p:nvPicPr>
        <p:blipFill>
          <a:blip r:embed="rId2"/>
          <a:stretch/>
        </p:blipFill>
        <p:spPr>
          <a:xfrm>
            <a:off x="-76320" y="14479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2743200" y="104616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screens clean, please do not tou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remove or load any softwa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can tilt over when moved, please do move the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gentle with mice &amp; headph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-6696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ve your area neat, clean, and organiz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28600" y="3552840"/>
            <a:ext cx="1828800" cy="10666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6400800" cy="3600360"/>
          </a:xfrm>
          <a:prstGeom prst="rect">
            <a:avLst/>
          </a:prstGeom>
          <a:ln w="76320">
            <a:solidFill>
              <a:srgbClr val="e0a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ang whack pow"/>
              </a:rPr>
              <a:t>Be Nice to Other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Help others with you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th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no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ang whack pow"/>
              </a:rPr>
              <a:t>mouse!!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Keep your hands 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your computer on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ng whack pow"/>
              </a:rPr>
              <a:t>Open only your wor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1" descr="MCj04257960000[1]"/>
          <p:cNvPicPr/>
          <p:nvPr/>
        </p:nvPicPr>
        <p:blipFill>
          <a:blip r:embed="rId1"/>
          <a:stretch/>
        </p:blipFill>
        <p:spPr>
          <a:xfrm>
            <a:off x="177840" y="3657600"/>
            <a:ext cx="29718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1d1df"/>
                </a:solidFill>
                <a:latin typeface="Berlin Sans FB"/>
              </a:rPr>
              <a:t>Internet Rules</a:t>
            </a:r>
            <a:endParaRPr b="0" lang="en-US" sz="7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tay on approved websi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ver give out person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formatio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odel Good Digital Citizenshi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t all times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21430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3:01:56Z</dcterms:created>
  <dc:creator>Amber Coggin</dc:creator>
  <dc:description/>
  <dc:language>en-US</dc:language>
  <cp:lastModifiedBy>dell</cp:lastModifiedBy>
  <dcterms:modified xsi:type="dcterms:W3CDTF">2014-08-25T16:17:43Z</dcterms:modified>
  <cp:revision>33</cp:revision>
  <dc:subject/>
  <dc:title>Slide 1</dc:title>
</cp:coreProperties>
</file>